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3EC1C-1A0D-4123-B61F-366FA4921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175E-3697-4526-80A4-82B51F0F3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45B6D-9BB9-4DA6-B2BB-B94122163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516A1-C17E-4BA4-AC3F-61F67DCC8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4143E-DEEB-454E-8D58-071EC9D51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64B27-A3B1-45AE-911C-FEED47878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00228-F2F3-42C4-8E9D-39CA88517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A7CC-A671-460C-9BA9-C24C2829B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00A6-9081-4F1E-84D3-1611692E5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BF2A6-DA11-4A9F-9BA5-7914FB750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1D2BA-D1E7-4E5E-BB5A-86252EFC2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4B2B-6E3A-4B59-A07D-C6CC08086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A1C9B-5341-4339-BFD8-1256A0BBA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C1C55-0FE8-46A7-8CF3-81CE8084A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EC433-D45F-4328-AC63-59F4EBB95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7395A-0BAE-4702-90C7-827A41413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CA918-57F5-4A83-9370-9F148889F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AE0C20-F221-489E-95DE-29FB95F666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A23B2-913D-4974-B7F5-A524E73D3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B4B23-32BB-42D3-909C-ED26AF31B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303B3-2416-46DC-BB61-AF22731BF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C684B-836C-41EC-B064-FA12D93382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E4C9-D354-401C-BE47-491F9374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3765D-3C59-44CA-B77A-30AACF98C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CB5A4-6046-4B25-8144-44F3D5130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98AB2-4264-4DE0-86B0-BC1D9A760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08222-6762-44EF-A5AC-9330BB5D2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095B5-20A3-4764-B155-52DF81DF0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FE81D-46AA-4DF5-8F37-3EEB84DDF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8DDB2-5E92-4C3A-9893-485A0EAA88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86C9CA-BFC8-4A05-B5E2-80A76A6D60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90BD7-3543-4505-8647-167766C05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5452A-2C16-46DE-A1FC-98671674E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7A92C-AD92-4D51-8447-DEB868BB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99EB6-107E-4B7B-84C4-9B8E459DD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38439-55FA-44F7-9F45-BC6A67DAE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414F5-1EC7-413A-853E-F36154F1F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2EEEE-8E13-4DD5-A887-43E9D0168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FF14B-B704-4C5A-AA10-6CDBF996B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B77A6-B9AA-4D18-8716-5EBA8B41E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B3B73-4D78-4217-B674-9721A8912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0466C4-A8F3-4C80-9FCF-0F03F7F0E9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20F19A-72AA-4FC1-94CF-D223CAEC11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D46F-0961-4F1A-B769-5C91F8560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B612-3522-4150-A286-61A476A7E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4249-31F9-4605-B822-D0D92DEC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D7D3-93A4-4DDC-8B38-2ECCE67C1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57B0-4A74-46A9-833D-E01FE79C1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B1BDD-B347-40AA-B17F-70460A715E93}"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AADB9-1EFD-4772-9948-E10F12B7051F}"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5E86C-BF6C-4D91-A0D9-5B28B3B10C20}"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B6ED9-C86E-41D0-91D0-552592EE4794}"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Droit du travail </a:t>
            </a:r>
            <a:endParaRPr b="0" lang="en-US" sz="44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Séance 7</a:t>
            </a:r>
            <a:endParaRPr b="0" lang="en-US" sz="3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Kamal LAGTATI </a:t>
            </a:r>
            <a:br>
              <a:rPr sz="1600"/>
            </a:br>
            <a:r>
              <a:rPr b="1" lang="fr-FR" sz="1600" spc="-1" strike="noStrike">
                <a:solidFill>
                  <a:srgbClr val="000000"/>
                </a:solidFill>
                <a:latin typeface="Times New Roman"/>
                <a:ea typeface="Times New Roman"/>
              </a:rPr>
              <a:t>Enseignant chercheur </a:t>
            </a:r>
            <a:br>
              <a:rPr sz="1600"/>
            </a:br>
            <a:r>
              <a:rPr b="1" lang="fr-FR" sz="1600" spc="-1" strike="noStrike">
                <a:solidFill>
                  <a:srgbClr val="000000"/>
                </a:solidFill>
                <a:latin typeface="Times New Roman"/>
                <a:ea typeface="Times New Roman"/>
              </a:rPr>
              <a:t>EST Lâayoune </a:t>
            </a:r>
            <a:endParaRPr b="0" lang="en-US" sz="16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5" name=""/>
          <p:cNvSpPr txBox="1"/>
          <p:nvPr/>
        </p:nvSpPr>
        <p:spPr>
          <a:xfrm>
            <a:off x="0" y="1206000"/>
            <a:ext cx="9144000" cy="56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Consultation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ne peuvent être prises qu’après consultation des représentants des syndicats</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écupération des heures de travail perdues</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Fixation des dates des congés annuels</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apport des services médicaux de l’entreprise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articipation dans la composition du CSH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199" name=""/>
          <p:cNvSpPr txBox="1"/>
          <p:nvPr/>
        </p:nvSpPr>
        <p:spPr>
          <a:xfrm>
            <a:off x="0" y="1158480"/>
            <a:ext cx="9144000" cy="5729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Les délégués des salariés </a:t>
            </a:r>
            <a:r>
              <a:rPr b="0" lang="fr-FR"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Défini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représentative des salariés, chargée de    défendre leurs intérêts.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st une institution obligatoire lorsque l’effectif de l’établissement atteint 10 salariés.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st une institution qui </a:t>
            </a:r>
            <a:r>
              <a:rPr b="0" lang="fr-FR" sz="2400" spc="-1" strike="noStrike" u="sng">
                <a:solidFill>
                  <a:srgbClr val="ff0000"/>
                </a:solidFill>
                <a:uFillTx/>
                <a:latin typeface="Constantia"/>
              </a:rPr>
              <a:t>n’a pas de personnalité moral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Attributions</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Réclamations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DP présentent au chef d’entreprise les réclamations qui n’auraient pas été satisfaites. Leur intervention ne serait ni concevable ni recevable que si le salarié avait déjà présenté ses réclamations directement à l’employeur.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1"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Communication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de l’employeur doivent être communiquées aux DP :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icenciement collectif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èglement intérieur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Aménagement du temps de travail : répartition de la durée annuelle globale de travail sur l’année.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éduction du temps de travai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icats professionnels et Représentants de personnel </a:t>
            </a:r>
            <a:endParaRPr b="0" lang="en-US" sz="3600" spc="-1" strike="noStrike">
              <a:solidFill>
                <a:srgbClr val="04617b"/>
              </a:solidFill>
              <a:latin typeface="Calibri"/>
            </a:endParaRPr>
          </a:p>
        </p:txBody>
      </p:sp>
      <p:sp>
        <p:nvSpPr>
          <p:cNvPr id="203"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3- Consultation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ne peuvent être prises avant de consulter les DP</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écupération des heures de travail perdues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dates des congés annuels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nvoi du rapport des services médicaux d’entreprise</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Participation dans la composition du CSH.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Moyens d’ac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Temps libre </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chef d’établissement est tenu de laisser au DP le temps nécessaire à l’accomplissement de sa mission. Ce temps ne peut dépasser 15h par moi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0972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5" name=""/>
          <p:cNvSpPr txBox="1"/>
          <p:nvPr/>
        </p:nvSpPr>
        <p:spPr>
          <a:xfrm>
            <a:off x="0" y="1250640"/>
            <a:ext cx="9144000" cy="5607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Collecte des informations </a:t>
            </a:r>
            <a:r>
              <a:rPr b="0" lang="fr-FR" sz="2400" spc="-1" strike="noStrike">
                <a:solidFill>
                  <a:srgbClr val="000000"/>
                </a:solidFill>
                <a:latin typeface="Constantia"/>
              </a:rPr>
              <a:t>:</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DP a le droit de se déplacer dans l’entreprise et de prendre contact avec les salariés afin de s’informer sur la nature des réclamations éventuelle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ommunication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DP peuvent afficher des renseignements et distribuer des tracts à condition qu’ils n’aient pas un caractère politique, syndical ou diffamatoir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Protec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Tout changement de service, Toute décision de mise à pied ou tout licenciement suppose l’accord de l’agent chargé de l’inspection du travai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52240"/>
            <a:ext cx="8229600" cy="83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7"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omité d’entreprise </a:t>
            </a:r>
            <a:r>
              <a:rPr b="0" lang="fr-FR"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Défini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t>
            </a:r>
            <a:r>
              <a:rPr b="0" lang="is-IS" sz="2400" spc="-1" strike="noStrike">
                <a:solidFill>
                  <a:srgbClr val="000000"/>
                </a:solidFill>
                <a:latin typeface="Constantia"/>
              </a:rPr>
              <a:t> </a:t>
            </a:r>
            <a:r>
              <a:rPr b="0" lang="fr-FR" sz="2400" spc="-1" strike="noStrike">
                <a:solidFill>
                  <a:srgbClr val="000000"/>
                </a:solidFill>
                <a:latin typeface="Constantia"/>
              </a:rPr>
              <a:t>est un conseil qui assure la gestion et le contrôle des activités de l’entrepris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obligatoire dans les entreprises occupant au moins 50 salariés</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composée du chef d’entreprise, en qualité de président et deux membres ayant la qualité de délégué du personnel.</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qui </a:t>
            </a:r>
            <a:r>
              <a:rPr b="0" lang="fr-FR" sz="2400" spc="-1" strike="noStrike" u="sng">
                <a:solidFill>
                  <a:srgbClr val="ff0000"/>
                </a:solidFill>
                <a:uFillTx/>
                <a:latin typeface="Constantia"/>
              </a:rPr>
              <a:t>n’a pas de personnalité morale</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9"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Attributions</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CE est chargé d’examiner et de rendre son avis sur :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transformations structurelles et technologiques à effectuer dans l’entreprise.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bilan social de l’entreprise lors de son approbation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stratégie de production de l’entreprise et les moyens d’augmenter la rentabilité</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élaboration de projets sociaux au profit des salariés et leur mise en exécution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programmes d’apprentissage, de formation-insertion, de lutte contre l’analphabétisme et de formation continue des salarié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1" name=""/>
          <p:cNvSpPr txBox="1"/>
          <p:nvPr/>
        </p:nvSpPr>
        <p:spPr>
          <a:xfrm>
            <a:off x="0" y="1206000"/>
            <a:ext cx="9144000" cy="5651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Représentants des syndicats dans l’entreprise </a:t>
            </a:r>
            <a:r>
              <a:rPr b="0" lang="fr-FR" sz="2400" spc="-1" strike="noStrike">
                <a:solidFill>
                  <a:srgbClr val="000000"/>
                </a:solidFill>
                <a:latin typeface="Constantia"/>
              </a:rPr>
              <a:t>: (</a:t>
            </a:r>
            <a:r>
              <a:rPr b="1" lang="fr-FR" sz="2400" spc="-1" strike="noStrike">
                <a:solidFill>
                  <a:srgbClr val="000000"/>
                </a:solidFill>
                <a:latin typeface="Constantia"/>
              </a:rPr>
              <a:t>Le bureau syndical</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Défini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est institué auprès des entreprises  :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qui occupent plus de 100 salariés</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où il existe un ou plusieurs syndicats</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y a deux conditions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être le syndicat le plus représentatif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ayant obtenu le plus grand nombre de voix lors des dernières élections législativ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3" name=""/>
          <p:cNvSpPr txBox="1"/>
          <p:nvPr/>
        </p:nvSpPr>
        <p:spPr>
          <a:xfrm>
            <a:off x="0" y="1206000"/>
            <a:ext cx="9144000" cy="56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Attributions</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Communication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de l’employeur doivent être communiquées aux représentants des syndicat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licenciement pour motifs technologiques, structurels et économiques.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Établissement d’un RI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ménagement du temps du travail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Réduction du temps de travai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26T03:20:06Z</dcterms:modified>
  <cp:revision>185</cp:revision>
  <dc:subject/>
  <dc:title>Définition </dc:title>
</cp:coreProperties>
</file>